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50.wmf" ContentType="image/x-wmf"/>
  <Override PartName="/ppt/media/image29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31.png" ContentType="image/png"/>
  <Override PartName="/ppt/media/image49.wmf" ContentType="image/x-wmf"/>
  <Override PartName="/ppt/media/image51.png" ContentType="image/png"/>
  <Override PartName="/ppt/media/image9.wmf" ContentType="image/x-wmf"/>
  <Override PartName="/ppt/media/image14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43.wmf" ContentType="image/x-wmf"/>
  <Override PartName="/ppt/media/image56.png" ContentType="image/png"/>
  <Override PartName="/ppt/media/image42.wmf" ContentType="image/x-wmf"/>
  <Override PartName="/ppt/media/image39.png" ContentType="image/png"/>
  <Override PartName="/ppt/media/image41.wmf" ContentType="image/x-wmf"/>
  <Override PartName="/ppt/media/image38.png" ContentType="image/png"/>
  <Override PartName="/ppt/media/image13.png" ContentType="image/png"/>
  <Override PartName="/ppt/media/image8.wmf" ContentType="image/x-wmf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280-3D84-4942-82E4-1373AC18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23B-BFB3-4D7F-8FD2-FA78F330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27F-8D7F-4BEA-8C2B-F7C9BEC7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948-41B4-4BEB-A508-34A9A80F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D29-0E0F-46CE-A878-B8B7333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C5B-DC21-405E-8C67-A95B108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545-1867-4F7C-80E3-0374090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FFB-2879-48A6-9ECC-95A0A28A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C37-3E1F-4553-A1A9-557C2B6C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557-BEE7-41F2-9820-4F6703F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619-0B99-49C8-B58F-3A0DA2E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4D8-CCC1-42C4-A56D-92199C6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F60-7112-47B8-AF09-C6E937E9E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5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ital Cloc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Building Your Own Classes and Object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itializing Objects: Constructo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assing Arguments to a Constructo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Window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1120" y="1409760"/>
          <a:ext cx="7737480" cy="51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409760"/>
                    <a:ext cx="77374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(represent objects’ attribu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(represent objects’ behaviors and oper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’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member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return types and parameter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placed in a header f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changes infrequ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’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the code that executes when member functions are invo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placed in a source code f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change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19440" y="3038400"/>
            <a:ext cx="1905120" cy="164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6160" y="1447920"/>
            <a:ext cx="63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Fi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der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4343400"/>
            <a:ext cx="3048120" cy="870840"/>
            <a:chOff x="914400" y="4343400"/>
            <a:chExt cx="3048120" cy="870840"/>
          </a:xfrm>
        </p:grpSpPr>
        <p:sp>
          <p:nvSpPr>
            <p:cNvPr id="81" name=""/>
            <p:cNvSpPr/>
            <p:nvPr/>
          </p:nvSpPr>
          <p:spPr>
            <a:xfrm>
              <a:off x="914400" y="487692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 Fi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lder (select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143000" y="4343400"/>
              <a:ext cx="2819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08200" y="1990800"/>
            <a:ext cx="5726160" cy="374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5080" y="1461960"/>
            <a:ext cx="68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.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Existing 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76720" y="3048120"/>
            <a:ext cx="3809880" cy="489600"/>
            <a:chOff x="3276720" y="3048120"/>
            <a:chExt cx="3809880" cy="489600"/>
          </a:xfrm>
        </p:grpSpPr>
        <p:sp>
          <p:nvSpPr>
            <p:cNvPr id="87" name=""/>
            <p:cNvSpPr/>
            <p:nvPr/>
          </p:nvSpPr>
          <p:spPr>
            <a:xfrm>
              <a:off x="4952880" y="32004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ile (select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3276720" y="3048120"/>
              <a:ext cx="1676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19440" y="29862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4000" y="1461960"/>
            <a:ext cx="52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Fi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der contain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.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4419360"/>
            <a:ext cx="3733920" cy="947160"/>
            <a:chOff x="457200" y="4419360"/>
            <a:chExt cx="3733920" cy="947160"/>
          </a:xfrm>
        </p:grpSpPr>
        <p:sp>
          <p:nvSpPr>
            <p:cNvPr id="93" name=""/>
            <p:cNvSpPr/>
            <p:nvPr/>
          </p:nvSpPr>
          <p:spPr>
            <a:xfrm>
              <a:off x="457200" y="502920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l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 Fi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990720" y="441936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9600" y="2057400"/>
            <a:ext cx="6183360" cy="29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0040" y="1447920"/>
            <a:ext cx="36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352680" y="3314880"/>
            <a:ext cx="5257800" cy="580680"/>
            <a:chOff x="3352680" y="3314880"/>
            <a:chExt cx="5257800" cy="580680"/>
          </a:xfrm>
        </p:grpSpPr>
        <p:sp>
          <p:nvSpPr>
            <p:cNvPr id="99" name=""/>
            <p:cNvSpPr/>
            <p:nvPr/>
          </p:nvSpPr>
          <p:spPr>
            <a:xfrm>
              <a:off x="5638680" y="3314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venting multiple inclusions of the same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352680" y="33148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47760" y="3924000"/>
            <a:ext cx="3657960" cy="642600"/>
            <a:chOff x="3047760" y="3924000"/>
            <a:chExt cx="3657960" cy="642600"/>
          </a:xfrm>
        </p:grpSpPr>
        <p:sp>
          <p:nvSpPr>
            <p:cNvPr id="102" name=""/>
            <p:cNvSpPr/>
            <p:nvPr/>
          </p:nvSpPr>
          <p:spPr>
            <a:xfrm>
              <a:off x="4648320" y="42292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ty class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047760" y="392400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betwe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fnd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end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gnored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_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ready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9600" y="1905120"/>
            <a:ext cx="6183360" cy="3571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2920" y="1461960"/>
            <a:ext cx="39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member fun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040" y="1809720"/>
            <a:ext cx="5029560" cy="914400"/>
            <a:chOff x="3200040" y="1809720"/>
            <a:chExt cx="5029560" cy="914400"/>
          </a:xfrm>
        </p:grpSpPr>
        <p:sp>
          <p:nvSpPr>
            <p:cNvPr id="109" name=""/>
            <p:cNvSpPr/>
            <p:nvPr/>
          </p:nvSpPr>
          <p:spPr>
            <a:xfrm>
              <a:off x="5638680" y="18097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s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-access specif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200040" y="226692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5486400"/>
            <a:ext cx="776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members can be accessed by using an object followed by the member access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55840" y="2209680"/>
            <a:ext cx="623088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3640" y="1461960"/>
            <a:ext cx="36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data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123720" y="2295360"/>
            <a:ext cx="5410800" cy="609480"/>
            <a:chOff x="3123720" y="2295360"/>
            <a:chExt cx="5410800" cy="609480"/>
          </a:xfrm>
        </p:grpSpPr>
        <p:sp>
          <p:nvSpPr>
            <p:cNvPr id="116" name=""/>
            <p:cNvSpPr/>
            <p:nvPr/>
          </p:nvSpPr>
          <p:spPr>
            <a:xfrm>
              <a:off x="5715000" y="229536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 members using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23720" y="2676240"/>
              <a:ext cx="2590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5800" y="4419720"/>
            <a:ext cx="7769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members can be accessed only by member functions of the sam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ed access from a non-member function is a 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your own clas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use objects of your own clas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access to data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your ow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 to set the fill character for fiel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defined outside the class definition must be “tied” to the class with the 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7680" y="3247920"/>
            <a:ext cx="810720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50800" y="2209680"/>
            <a:ext cx="6240600" cy="164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" y="1461960"/>
            <a:ext cx="48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880" y="3285720"/>
            <a:ext cx="3048120" cy="1023480"/>
            <a:chOff x="380880" y="3285720"/>
            <a:chExt cx="3048120" cy="1023480"/>
          </a:xfrm>
        </p:grpSpPr>
        <p:sp>
          <p:nvSpPr>
            <p:cNvPr id="126" name=""/>
            <p:cNvSpPr/>
            <p:nvPr/>
          </p:nvSpPr>
          <p:spPr>
            <a:xfrm>
              <a:off x="380880" y="397188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0880" y="3285720"/>
              <a:ext cx="1752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4343400"/>
            <a:ext cx="776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ing for header files enclosed in angle br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or looks only in Standard Library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ing for header files enclosed in quotation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or looks in current director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94000" y="2133720"/>
            <a:ext cx="6154560" cy="1952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3280" y="1447920"/>
            <a:ext cx="43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 empty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76720" y="3133800"/>
            <a:ext cx="4038480" cy="337320"/>
            <a:chOff x="3276720" y="3133800"/>
            <a:chExt cx="4038480" cy="337320"/>
          </a:xfrm>
        </p:grpSpPr>
        <p:sp>
          <p:nvSpPr>
            <p:cNvPr id="133" name=""/>
            <p:cNvSpPr/>
            <p:nvPr/>
          </p:nvSpPr>
          <p:spPr>
            <a:xfrm>
              <a:off x="5562720" y="31338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ty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276720" y="3209760"/>
              <a:ext cx="2286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5800" y="4343400"/>
            <a:ext cx="776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e same name as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 return type (not ev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when an object is in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1480" y="1447920"/>
            <a:ext cx="50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or initializing data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0920" y="3962520"/>
            <a:ext cx="4877280" cy="337320"/>
            <a:chOff x="3580920" y="3962520"/>
            <a:chExt cx="4877280" cy="337320"/>
          </a:xfrm>
        </p:grpSpPr>
        <p:sp>
          <p:nvSpPr>
            <p:cNvPr id="140" name=""/>
            <p:cNvSpPr/>
            <p:nvPr/>
          </p:nvSpPr>
          <p:spPr>
            <a:xfrm>
              <a:off x="5257800" y="396252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data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80920" y="40384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55840" y="3124080"/>
            <a:ext cx="6230880" cy="1476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2920" y="1461960"/>
            <a:ext cx="46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.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4114440"/>
            <a:ext cx="3048120" cy="1099800"/>
            <a:chOff x="457200" y="4114440"/>
            <a:chExt cx="3048120" cy="1099800"/>
          </a:xfrm>
        </p:grpSpPr>
        <p:sp>
          <p:nvSpPr>
            <p:cNvPr id="146" name=""/>
            <p:cNvSpPr/>
            <p:nvPr/>
          </p:nvSpPr>
          <p:spPr>
            <a:xfrm>
              <a:off x="457200" y="48769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85800" y="411444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98680" y="2743200"/>
            <a:ext cx="6145200" cy="1162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12920" y="1461960"/>
            <a:ext cx="462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n object of 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23720" y="3424320"/>
            <a:ext cx="4191480" cy="1099080"/>
            <a:chOff x="3123720" y="3424320"/>
            <a:chExt cx="4191480" cy="1099080"/>
          </a:xfrm>
        </p:grpSpPr>
        <p:sp>
          <p:nvSpPr>
            <p:cNvPr id="152" name=""/>
            <p:cNvSpPr/>
            <p:nvPr/>
          </p:nvSpPr>
          <p:spPr>
            <a:xfrm>
              <a:off x="3962520" y="418608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an object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23720" y="3424320"/>
              <a:ext cx="160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5800" y="48769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-defined classes form new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is an extensible language because it can be extended with these new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acces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a data memb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mut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a value to a data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performs a validation check on the value before assigning it to the data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intains the data’s consist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840" y="1461960"/>
            <a:ext cx="33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u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4960" y="3886200"/>
            <a:ext cx="4800960" cy="337320"/>
            <a:chOff x="3504960" y="3886200"/>
            <a:chExt cx="4800960" cy="337320"/>
          </a:xfrm>
        </p:grpSpPr>
        <p:sp>
          <p:nvSpPr>
            <p:cNvPr id="161" name=""/>
            <p:cNvSpPr/>
            <p:nvPr/>
          </p:nvSpPr>
          <p:spPr>
            <a:xfrm>
              <a:off x="5029200" y="388620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a value from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50496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50800" y="2152800"/>
            <a:ext cx="6240600" cy="3419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11840" y="1461960"/>
            <a:ext cx="55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to check validity of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3809880"/>
            <a:ext cx="1752480" cy="2166120"/>
            <a:chOff x="533520" y="3809880"/>
            <a:chExt cx="1752480" cy="2166120"/>
          </a:xfrm>
        </p:grpSpPr>
        <p:sp>
          <p:nvSpPr>
            <p:cNvPr id="167" name=""/>
            <p:cNvSpPr/>
            <p:nvPr/>
          </p:nvSpPr>
          <p:spPr>
            <a:xfrm>
              <a:off x="533520" y="563868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ing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33520" y="3809880"/>
              <a:ext cx="17524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50800" y="2886120"/>
            <a:ext cx="6240600" cy="19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12200" y="1461960"/>
            <a:ext cx="36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Min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505320" y="3886200"/>
            <a:ext cx="4876560" cy="337320"/>
            <a:chOff x="3505320" y="3886200"/>
            <a:chExt cx="4876560" cy="337320"/>
          </a:xfrm>
        </p:grpSpPr>
        <p:sp>
          <p:nvSpPr>
            <p:cNvPr id="173" name=""/>
            <p:cNvSpPr/>
            <p:nvPr/>
          </p:nvSpPr>
          <p:spPr>
            <a:xfrm>
              <a:off x="5791320" y="38862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505320" y="4038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50800" y="2152800"/>
            <a:ext cx="6240600" cy="341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2920" y="1461960"/>
            <a:ext cx="55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used to validat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920" y="3733560"/>
            <a:ext cx="2057400" cy="2242440"/>
            <a:chOff x="304920" y="3733560"/>
            <a:chExt cx="2057400" cy="2242440"/>
          </a:xfrm>
        </p:grpSpPr>
        <p:sp>
          <p:nvSpPr>
            <p:cNvPr id="179" name=""/>
            <p:cNvSpPr/>
            <p:nvPr/>
          </p:nvSpPr>
          <p:spPr>
            <a:xfrm>
              <a:off x="304920" y="563868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ing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04920" y="3733560"/>
              <a:ext cx="20574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2200" y="1461960"/>
            <a:ext cx="36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ec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57600" y="3886200"/>
            <a:ext cx="4419720" cy="337320"/>
            <a:chOff x="3657600" y="3886200"/>
            <a:chExt cx="4419720" cy="337320"/>
          </a:xfrm>
        </p:grpSpPr>
        <p:sp>
          <p:nvSpPr>
            <p:cNvPr id="185" name=""/>
            <p:cNvSpPr/>
            <p:nvPr/>
          </p:nvSpPr>
          <p:spPr>
            <a:xfrm>
              <a:off x="5486400" y="38862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657600" y="40384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50800" y="2171880"/>
            <a:ext cx="6240600" cy="3381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2920" y="146196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to validat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880" y="3733920"/>
            <a:ext cx="1981440" cy="2166120"/>
            <a:chOff x="380880" y="3733920"/>
            <a:chExt cx="1981440" cy="2166120"/>
          </a:xfrm>
        </p:grpSpPr>
        <p:sp>
          <p:nvSpPr>
            <p:cNvPr id="191" name=""/>
            <p:cNvSpPr/>
            <p:nvPr/>
          </p:nvSpPr>
          <p:spPr>
            <a:xfrm>
              <a:off x="380880" y="55627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ing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80880" y="3733920"/>
              <a:ext cx="1981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8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94000" y="2057400"/>
            <a:ext cx="6154560" cy="2266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12560" y="1461960"/>
            <a:ext cx="38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38480" y="1752480"/>
            <a:ext cx="4419720" cy="1371600"/>
            <a:chOff x="4038480" y="1752480"/>
            <a:chExt cx="4419720" cy="1371600"/>
          </a:xfrm>
        </p:grpSpPr>
        <p:sp>
          <p:nvSpPr>
            <p:cNvPr id="197" name=""/>
            <p:cNvSpPr/>
            <p:nvPr/>
          </p:nvSpPr>
          <p:spPr>
            <a:xfrm>
              <a:off x="6019920" y="1752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fill charac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displaying the time i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038480" y="2438280"/>
              <a:ext cx="1981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85800" y="4572000"/>
            <a:ext cx="7769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the character that will fill unoccupied positions in a field in the output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outputs the stre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 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sc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7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50800" y="2938320"/>
            <a:ext cx="6240600" cy="1847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9680" y="1447920"/>
            <a:ext cx="63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or us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s to initialize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733560" y="3962160"/>
            <a:ext cx="3429360" cy="1814760"/>
            <a:chOff x="3733560" y="3962160"/>
            <a:chExt cx="3429360" cy="1814760"/>
          </a:xfrm>
        </p:grpSpPr>
        <p:sp>
          <p:nvSpPr>
            <p:cNvPr id="204" name=""/>
            <p:cNvSpPr/>
            <p:nvPr/>
          </p:nvSpPr>
          <p:spPr>
            <a:xfrm>
              <a:off x="4419720" y="49528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ing data by call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733560" y="3962160"/>
              <a:ext cx="2895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94000" y="1905120"/>
            <a:ext cx="6154560" cy="4209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5080" y="1461960"/>
            <a:ext cx="54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ing the time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952880" y="2514600"/>
            <a:ext cx="3505320" cy="609480"/>
            <a:chOff x="4952880" y="2514600"/>
            <a:chExt cx="3505320" cy="609480"/>
          </a:xfrm>
        </p:grpSpPr>
        <p:sp>
          <p:nvSpPr>
            <p:cNvPr id="210" name=""/>
            <p:cNvSpPr/>
            <p:nvPr/>
          </p:nvSpPr>
          <p:spPr>
            <a:xfrm>
              <a:off x="6324480" y="25146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5288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419360" y="3505320"/>
            <a:ext cx="4267440" cy="580680"/>
            <a:chOff x="4419360" y="3505320"/>
            <a:chExt cx="4267440" cy="580680"/>
          </a:xfrm>
        </p:grpSpPr>
        <p:sp>
          <p:nvSpPr>
            <p:cNvPr id="213" name=""/>
            <p:cNvSpPr/>
            <p:nvPr/>
          </p:nvSpPr>
          <p:spPr>
            <a:xfrm>
              <a:off x="6400800" y="3505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19360" y="3657600"/>
              <a:ext cx="1981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48320" y="4495680"/>
            <a:ext cx="3809880" cy="580680"/>
            <a:chOff x="4648320" y="4495680"/>
            <a:chExt cx="3809880" cy="580680"/>
          </a:xfrm>
        </p:grpSpPr>
        <p:sp>
          <p:nvSpPr>
            <p:cNvPr id="216" name=""/>
            <p:cNvSpPr/>
            <p:nvPr/>
          </p:nvSpPr>
          <p:spPr>
            <a:xfrm>
              <a:off x="6400800" y="44956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648320" y="4495680"/>
              <a:ext cx="1752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4920" y="2666880"/>
            <a:ext cx="6192720" cy="1143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12920" y="1461960"/>
            <a:ext cx="48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of 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3338280"/>
            <a:ext cx="1828800" cy="1114200"/>
            <a:chOff x="762120" y="3338280"/>
            <a:chExt cx="1828800" cy="1114200"/>
          </a:xfrm>
        </p:grpSpPr>
        <p:sp>
          <p:nvSpPr>
            <p:cNvPr id="222" name=""/>
            <p:cNvSpPr/>
            <p:nvPr/>
          </p:nvSpPr>
          <p:spPr>
            <a:xfrm>
              <a:off x="762120" y="38718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variabl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_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523880" y="3338280"/>
              <a:ext cx="10670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48769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return typ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returns the current clock time in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9600" y="1981080"/>
            <a:ext cx="6183360" cy="405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2200" y="1447920"/>
            <a:ext cx="51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nd displaying the curren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952880" y="2895120"/>
            <a:ext cx="3886200" cy="1311120"/>
            <a:chOff x="4952880" y="2895120"/>
            <a:chExt cx="3886200" cy="1311120"/>
          </a:xfrm>
        </p:grpSpPr>
        <p:sp>
          <p:nvSpPr>
            <p:cNvPr id="229" name=""/>
            <p:cNvSpPr/>
            <p:nvPr/>
          </p:nvSpPr>
          <p:spPr>
            <a:xfrm>
              <a:off x="5943600" y="2895480"/>
              <a:ext cx="2895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user for and inputting the current hour, minute and second, then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’s set functions to set the current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4952880" y="28951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105520" y="32767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29200" y="327672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581280" y="4800600"/>
            <a:ext cx="4267440" cy="533520"/>
            <a:chOff x="3581280" y="4800600"/>
            <a:chExt cx="4267440" cy="533520"/>
          </a:xfrm>
        </p:grpSpPr>
        <p:sp>
          <p:nvSpPr>
            <p:cNvPr id="234" name=""/>
            <p:cNvSpPr/>
            <p:nvPr/>
          </p:nvSpPr>
          <p:spPr>
            <a:xfrm>
              <a:off x="5410080" y="480060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current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581280" y="48769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8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46120" y="2886120"/>
            <a:ext cx="6249960" cy="1952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14360" y="1447920"/>
            <a:ext cx="423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curren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190760" y="4191120"/>
            <a:ext cx="3505320" cy="1418760"/>
            <a:chOff x="4190760" y="4191120"/>
            <a:chExt cx="3505320" cy="1418760"/>
          </a:xfrm>
        </p:grpSpPr>
        <p:sp>
          <p:nvSpPr>
            <p:cNvPr id="240" name=""/>
            <p:cNvSpPr/>
            <p:nvPr/>
          </p:nvSpPr>
          <p:spPr>
            <a:xfrm>
              <a:off x="472428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store the current time, in seco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190760" y="4191120"/>
              <a:ext cx="1981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46120" y="2514600"/>
            <a:ext cx="6249960" cy="1952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13640" y="1447920"/>
            <a:ext cx="64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ing and display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191120" y="2209680"/>
            <a:ext cx="4495680" cy="1295280"/>
            <a:chOff x="4191120" y="2209680"/>
            <a:chExt cx="4495680" cy="1295280"/>
          </a:xfrm>
        </p:grpSpPr>
        <p:sp>
          <p:nvSpPr>
            <p:cNvPr id="246" name=""/>
            <p:cNvSpPr/>
            <p:nvPr/>
          </p:nvSpPr>
          <p:spPr>
            <a:xfrm>
              <a:off x="6477120" y="2209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and displa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time once per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191120" y="304776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5105520"/>
            <a:ext cx="776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ly testing a condition until it becom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4000" y="1447920"/>
            <a:ext cx="81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 current hou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mpt displayed when your application is exec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2920" y="1447920"/>
            <a:ext cx="50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94000" y="1905120"/>
            <a:ext cx="6154560" cy="1171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6520" y="1461960"/>
            <a:ext cx="75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prototype that specifie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3276720"/>
            <a:ext cx="7769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that declares n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ov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functions with the same name, but different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call’s argument list determines which func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038480" y="2666520"/>
            <a:ext cx="4419720" cy="1114560"/>
            <a:chOff x="4038480" y="2666520"/>
            <a:chExt cx="4419720" cy="1114560"/>
          </a:xfrm>
        </p:grpSpPr>
        <p:sp>
          <p:nvSpPr>
            <p:cNvPr id="257" name=""/>
            <p:cNvSpPr/>
            <p:nvPr/>
          </p:nvSpPr>
          <p:spPr>
            <a:xfrm>
              <a:off x="6019920" y="32004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specifies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arame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038480" y="2666520"/>
              <a:ext cx="198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5" dur="1" fill="hold"/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50800" y="2481120"/>
            <a:ext cx="6240600" cy="2762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13640" y="1461960"/>
            <a:ext cx="54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47960" y="3733920"/>
            <a:ext cx="4191120" cy="824040"/>
            <a:chOff x="4647960" y="3733920"/>
            <a:chExt cx="4191120" cy="824040"/>
          </a:xfrm>
        </p:grpSpPr>
        <p:sp>
          <p:nvSpPr>
            <p:cNvPr id="263" name=""/>
            <p:cNvSpPr/>
            <p:nvPr/>
          </p:nvSpPr>
          <p:spPr>
            <a:xfrm>
              <a:off x="6629400" y="37339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constructor’s parameters to set the hour, minute and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647960" y="4114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79600" y="2243160"/>
            <a:ext cx="6183360" cy="3238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19400" y="1461960"/>
            <a:ext cx="84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gitalClock.c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ass argument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486040" y="4419720"/>
            <a:ext cx="3200760" cy="580680"/>
            <a:chOff x="5486040" y="4419720"/>
            <a:chExt cx="3200760" cy="580680"/>
          </a:xfrm>
        </p:grpSpPr>
        <p:sp>
          <p:nvSpPr>
            <p:cNvPr id="269" name=""/>
            <p:cNvSpPr/>
            <p:nvPr/>
          </p:nvSpPr>
          <p:spPr>
            <a:xfrm>
              <a:off x="6705720" y="44197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ing argument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486040" y="4876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60520" y="2133720"/>
            <a:ext cx="6221520" cy="1476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6160" y="1461960"/>
            <a:ext cx="66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lliSen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181480" y="3124080"/>
            <a:ext cx="3581640" cy="580680"/>
            <a:chOff x="5181480" y="3124080"/>
            <a:chExt cx="3581640" cy="580680"/>
          </a:xfrm>
        </p:grpSpPr>
        <p:sp>
          <p:nvSpPr>
            <p:cNvPr id="275" name=""/>
            <p:cNvSpPr/>
            <p:nvPr/>
          </p:nvSpPr>
          <p:spPr>
            <a:xfrm>
              <a:off x="5791320" y="3124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ntelliSe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splays the appropriate constructor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181480" y="32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85800" y="4038480"/>
            <a:ext cx="7769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Studio .NET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function prototypes when writing a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up and down arrows to select from overload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" dur="1" fill="hold"/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1599840" y="914400"/>
            <a:ext cx="5867640" cy="580680"/>
            <a:chOff x="1599840" y="914400"/>
            <a:chExt cx="5867640" cy="580680"/>
          </a:xfrm>
        </p:grpSpPr>
        <p:sp>
          <p:nvSpPr>
            <p:cNvPr id="282" name=""/>
            <p:cNvSpPr/>
            <p:nvPr/>
          </p:nvSpPr>
          <p:spPr>
            <a:xfrm>
              <a:off x="4495680" y="9144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vent multiple inclusions of the same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99840" y="13716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90360" y="2057400"/>
            <a:ext cx="6782040" cy="609480"/>
            <a:chOff x="990360" y="2057400"/>
            <a:chExt cx="6782040" cy="609480"/>
          </a:xfrm>
        </p:grpSpPr>
        <p:sp>
          <p:nvSpPr>
            <p:cNvPr id="285" name=""/>
            <p:cNvSpPr/>
            <p:nvPr/>
          </p:nvSpPr>
          <p:spPr>
            <a:xfrm>
              <a:off x="4724280" y="2057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s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90360" y="2133720"/>
              <a:ext cx="3733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438280" y="2971800"/>
            <a:ext cx="6172200" cy="580680"/>
            <a:chOff x="2438280" y="2971800"/>
            <a:chExt cx="6172200" cy="580680"/>
          </a:xfrm>
        </p:grpSpPr>
        <p:sp>
          <p:nvSpPr>
            <p:cNvPr id="288" name=""/>
            <p:cNvSpPr/>
            <p:nvPr/>
          </p:nvSpPr>
          <p:spPr>
            <a:xfrm>
              <a:off x="5791320" y="297180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that specifies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arame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438280" y="2971800"/>
              <a:ext cx="3353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1" dur="1" fill="hold"/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1981080"/>
            <a:ext cx="6858000" cy="580680"/>
            <a:chOff x="1066680" y="1981080"/>
            <a:chExt cx="6858000" cy="580680"/>
          </a:xfrm>
        </p:grpSpPr>
        <p:sp>
          <p:nvSpPr>
            <p:cNvPr id="294" name=""/>
            <p:cNvSpPr/>
            <p:nvPr/>
          </p:nvSpPr>
          <p:spPr>
            <a:xfrm>
              <a:off x="525780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 members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066680" y="1981080"/>
              <a:ext cx="4191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0" dur="1" fill="hold"/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752480" y="1371600"/>
            <a:ext cx="6934320" cy="337320"/>
            <a:chOff x="1752480" y="1371600"/>
            <a:chExt cx="6934320" cy="337320"/>
          </a:xfrm>
        </p:grpSpPr>
        <p:sp>
          <p:nvSpPr>
            <p:cNvPr id="300" name=""/>
            <p:cNvSpPr/>
            <p:nvPr/>
          </p:nvSpPr>
          <p:spPr>
            <a:xfrm>
              <a:off x="5943600" y="1371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h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752480" y="1371600"/>
              <a:ext cx="4191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905120" y="3962160"/>
            <a:ext cx="5562360" cy="581040"/>
            <a:chOff x="1905120" y="3962160"/>
            <a:chExt cx="5562360" cy="581040"/>
          </a:xfrm>
        </p:grpSpPr>
        <p:sp>
          <p:nvSpPr>
            <p:cNvPr id="303" name=""/>
            <p:cNvSpPr/>
            <p:nvPr/>
          </p:nvSpPr>
          <p:spPr>
            <a:xfrm>
              <a:off x="5410080" y="39625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data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905120" y="3962160"/>
              <a:ext cx="3504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4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19160" y="1523880"/>
            <a:ext cx="4267440" cy="824040"/>
            <a:chOff x="2819160" y="1523880"/>
            <a:chExt cx="4267440" cy="824040"/>
          </a:xfrm>
        </p:grpSpPr>
        <p:sp>
          <p:nvSpPr>
            <p:cNvPr id="309" name=""/>
            <p:cNvSpPr/>
            <p:nvPr/>
          </p:nvSpPr>
          <p:spPr>
            <a:xfrm>
              <a:off x="4876920" y="1523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constructor’s parameters to set the hour, minute and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19160" y="1523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76520" y="3505320"/>
            <a:ext cx="5333760" cy="1037880"/>
            <a:chOff x="1676520" y="3505320"/>
            <a:chExt cx="5333760" cy="1037880"/>
          </a:xfrm>
        </p:grpSpPr>
        <p:sp>
          <p:nvSpPr>
            <p:cNvPr id="312" name=""/>
            <p:cNvSpPr/>
            <p:nvPr/>
          </p:nvSpPr>
          <p:spPr>
            <a:xfrm>
              <a:off x="5181480" y="39625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a value from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676520" y="3505320"/>
              <a:ext cx="3504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7" name=""/>
          <p:cNvGrpSpPr/>
          <p:nvPr/>
        </p:nvGrpSpPr>
        <p:grpSpPr>
          <a:xfrm>
            <a:off x="1828440" y="4343400"/>
            <a:ext cx="6248880" cy="337320"/>
            <a:chOff x="1828440" y="4343400"/>
            <a:chExt cx="6248880" cy="337320"/>
          </a:xfrm>
        </p:grpSpPr>
        <p:sp>
          <p:nvSpPr>
            <p:cNvPr id="318" name=""/>
            <p:cNvSpPr/>
            <p:nvPr/>
          </p:nvSpPr>
          <p:spPr>
            <a:xfrm>
              <a:off x="5715000" y="4343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828440" y="4343400"/>
              <a:ext cx="3886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809880" y="838080"/>
            <a:ext cx="2743200" cy="337320"/>
            <a:chOff x="3809880" y="838080"/>
            <a:chExt cx="2743200" cy="337320"/>
          </a:xfrm>
        </p:grpSpPr>
        <p:sp>
          <p:nvSpPr>
            <p:cNvPr id="321" name=""/>
            <p:cNvSpPr/>
            <p:nvPr/>
          </p:nvSpPr>
          <p:spPr>
            <a:xfrm>
              <a:off x="5257800" y="8380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e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809880" y="8380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2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2920" y="1447920"/>
            <a:ext cx="61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valid data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114440" y="990720"/>
            <a:ext cx="2514960" cy="337320"/>
            <a:chOff x="4114440" y="990720"/>
            <a:chExt cx="2514960" cy="337320"/>
          </a:xfrm>
        </p:grpSpPr>
        <p:sp>
          <p:nvSpPr>
            <p:cNvPr id="327" name=""/>
            <p:cNvSpPr/>
            <p:nvPr/>
          </p:nvSpPr>
          <p:spPr>
            <a:xfrm>
              <a:off x="5334120" y="99072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e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114440" y="99072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28800" y="2895480"/>
            <a:ext cx="5943600" cy="1676520"/>
            <a:chOff x="1828800" y="2895480"/>
            <a:chExt cx="5943600" cy="1676520"/>
          </a:xfrm>
        </p:grpSpPr>
        <p:sp>
          <p:nvSpPr>
            <p:cNvPr id="330" name=""/>
            <p:cNvSpPr/>
            <p:nvPr/>
          </p:nvSpPr>
          <p:spPr>
            <a:xfrm>
              <a:off x="5410080" y="2895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828800" y="2895480"/>
              <a:ext cx="35812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6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191120" y="914400"/>
            <a:ext cx="2666880" cy="337320"/>
            <a:chOff x="4191120" y="914400"/>
            <a:chExt cx="2666880" cy="337320"/>
          </a:xfrm>
        </p:grpSpPr>
        <p:sp>
          <p:nvSpPr>
            <p:cNvPr id="336" name=""/>
            <p:cNvSpPr/>
            <p:nvPr/>
          </p:nvSpPr>
          <p:spPr>
            <a:xfrm>
              <a:off x="5562720" y="91440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e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191120" y="91440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286000" y="2895480"/>
            <a:ext cx="4800600" cy="1676520"/>
            <a:chOff x="2286000" y="2895480"/>
            <a:chExt cx="4800600" cy="1676520"/>
          </a:xfrm>
        </p:grpSpPr>
        <p:sp>
          <p:nvSpPr>
            <p:cNvPr id="339" name=""/>
            <p:cNvSpPr/>
            <p:nvPr/>
          </p:nvSpPr>
          <p:spPr>
            <a:xfrm>
              <a:off x="4952880" y="289548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fill charac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the time i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286000" y="3124080"/>
              <a:ext cx="26668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0" dur="1" fill="hold"/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09880" y="1143000"/>
            <a:ext cx="3657600" cy="794520"/>
            <a:chOff x="3809880" y="1143000"/>
            <a:chExt cx="3657600" cy="794520"/>
          </a:xfrm>
        </p:grpSpPr>
        <p:sp>
          <p:nvSpPr>
            <p:cNvPr id="345" name=""/>
            <p:cNvSpPr/>
            <p:nvPr/>
          </p:nvSpPr>
          <p:spPr>
            <a:xfrm>
              <a:off x="5638680" y="16002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3809880" y="114300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038480" y="2362320"/>
            <a:ext cx="4191120" cy="809280"/>
            <a:chOff x="4038480" y="2362320"/>
            <a:chExt cx="4191120" cy="809280"/>
          </a:xfrm>
        </p:grpSpPr>
        <p:sp>
          <p:nvSpPr>
            <p:cNvPr id="348" name=""/>
            <p:cNvSpPr/>
            <p:nvPr/>
          </p:nvSpPr>
          <p:spPr>
            <a:xfrm>
              <a:off x="5410080" y="25909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038480" y="236232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33560" y="3580920"/>
            <a:ext cx="3581640" cy="1190880"/>
            <a:chOff x="3733560" y="3580920"/>
            <a:chExt cx="3581640" cy="1190880"/>
          </a:xfrm>
        </p:grpSpPr>
        <p:sp>
          <p:nvSpPr>
            <p:cNvPr id="351" name=""/>
            <p:cNvSpPr/>
            <p:nvPr/>
          </p:nvSpPr>
          <p:spPr>
            <a:xfrm>
              <a:off x="4724280" y="4191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3733560" y="358092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086600" y="533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gitalClock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828440" y="1600200"/>
            <a:ext cx="6934680" cy="337320"/>
            <a:chOff x="1828440" y="1600200"/>
            <a:chExt cx="6934680" cy="337320"/>
          </a:xfrm>
        </p:grpSpPr>
        <p:sp>
          <p:nvSpPr>
            <p:cNvPr id="357" name=""/>
            <p:cNvSpPr/>
            <p:nvPr/>
          </p:nvSpPr>
          <p:spPr>
            <a:xfrm>
              <a:off x="5715000" y="160020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828440" y="19051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523880" y="4571640"/>
            <a:ext cx="3657600" cy="947160"/>
            <a:chOff x="1523880" y="4571640"/>
            <a:chExt cx="3657600" cy="947160"/>
          </a:xfrm>
        </p:grpSpPr>
        <p:sp>
          <p:nvSpPr>
            <p:cNvPr id="360" name=""/>
            <p:cNvSpPr/>
            <p:nvPr/>
          </p:nvSpPr>
          <p:spPr>
            <a:xfrm>
              <a:off x="2133720" y="5181480"/>
              <a:ext cx="3047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variabl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_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1523880" y="457164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3" dur="1" fill="hold"/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7086600" y="533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gitalClock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124080" y="609480"/>
            <a:ext cx="5257800" cy="1647720"/>
            <a:chOff x="3124080" y="609480"/>
            <a:chExt cx="5257800" cy="1647720"/>
          </a:xfrm>
        </p:grpSpPr>
        <p:sp>
          <p:nvSpPr>
            <p:cNvPr id="366" name=""/>
            <p:cNvSpPr/>
            <p:nvPr/>
          </p:nvSpPr>
          <p:spPr>
            <a:xfrm>
              <a:off x="5029200" y="167652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d input current hour, minute and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3809520" y="129492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733920" y="167652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3124080" y="609480"/>
              <a:ext cx="19051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962520" y="2819160"/>
            <a:ext cx="4572000" cy="1114200"/>
            <a:chOff x="3962520" y="2819160"/>
            <a:chExt cx="4572000" cy="1114200"/>
          </a:xfrm>
        </p:grpSpPr>
        <p:sp>
          <p:nvSpPr>
            <p:cNvPr id="371" name=""/>
            <p:cNvSpPr/>
            <p:nvPr/>
          </p:nvSpPr>
          <p:spPr>
            <a:xfrm>
              <a:off x="5715000" y="33526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ing argument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3962520" y="2819160"/>
              <a:ext cx="1752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286000" y="3809520"/>
            <a:ext cx="2895480" cy="1176120"/>
            <a:chOff x="2286000" y="3809520"/>
            <a:chExt cx="2895480" cy="1176120"/>
          </a:xfrm>
        </p:grpSpPr>
        <p:sp>
          <p:nvSpPr>
            <p:cNvPr id="374" name=""/>
            <p:cNvSpPr/>
            <p:nvPr/>
          </p:nvSpPr>
          <p:spPr>
            <a:xfrm>
              <a:off x="3581280" y="46483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286000" y="380952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2" dur="1" fill="hold"/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7086600" y="533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gitalClock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819160" y="914040"/>
            <a:ext cx="5791320" cy="1038240"/>
            <a:chOff x="2819160" y="914040"/>
            <a:chExt cx="5791320" cy="1038240"/>
          </a:xfrm>
        </p:grpSpPr>
        <p:sp>
          <p:nvSpPr>
            <p:cNvPr id="380" name=""/>
            <p:cNvSpPr/>
            <p:nvPr/>
          </p:nvSpPr>
          <p:spPr>
            <a:xfrm>
              <a:off x="5638680" y="1371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find the current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2819160" y="914040"/>
              <a:ext cx="2819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743200" y="2590560"/>
            <a:ext cx="5867280" cy="1038240"/>
            <a:chOff x="2743200" y="2590560"/>
            <a:chExt cx="5867280" cy="1038240"/>
          </a:xfrm>
        </p:grpSpPr>
        <p:sp>
          <p:nvSpPr>
            <p:cNvPr id="383" name=""/>
            <p:cNvSpPr/>
            <p:nvPr/>
          </p:nvSpPr>
          <p:spPr>
            <a:xfrm>
              <a:off x="5486400" y="30481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and 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time once per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2743200" y="2590560"/>
              <a:ext cx="2743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79600" y="2238480"/>
            <a:ext cx="6183360" cy="3247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13280" y="1447920"/>
            <a:ext cx="62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breakpoint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3520" y="2895480"/>
            <a:ext cx="1828800" cy="3080520"/>
            <a:chOff x="533520" y="2895480"/>
            <a:chExt cx="1828800" cy="3080520"/>
          </a:xfrm>
        </p:grpSpPr>
        <p:sp>
          <p:nvSpPr>
            <p:cNvPr id="389" name=""/>
            <p:cNvSpPr/>
            <p:nvPr/>
          </p:nvSpPr>
          <p:spPr>
            <a:xfrm>
              <a:off x="533520" y="56386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breakpo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520" y="2895480"/>
              <a:ext cx="9903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33520" y="51051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5" dur="1" fill="hold"/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71720" y="2590920"/>
            <a:ext cx="3400560" cy="1276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09680" y="1447920"/>
            <a:ext cx="70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the state of several local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410080" y="3404880"/>
            <a:ext cx="2819520" cy="1357560"/>
            <a:chOff x="5410080" y="3404880"/>
            <a:chExt cx="2819520" cy="1357560"/>
          </a:xfrm>
        </p:grpSpPr>
        <p:sp>
          <p:nvSpPr>
            <p:cNvPr id="396" name=""/>
            <p:cNvSpPr/>
            <p:nvPr/>
          </p:nvSpPr>
          <p:spPr>
            <a:xfrm>
              <a:off x="5410080" y="3938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s window displaying name and values of several recently used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5943240" y="340488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85800" y="4572000"/>
            <a:ext cx="7769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name, value and type of variables used in previous statement and nex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4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871720" y="2666880"/>
            <a:ext cx="3400560" cy="1685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13640" y="146196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the state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3609720"/>
            <a:ext cx="3429000" cy="1571400"/>
            <a:chOff x="380880" y="3609720"/>
            <a:chExt cx="3429000" cy="1571400"/>
          </a:xfrm>
        </p:grpSpPr>
        <p:sp>
          <p:nvSpPr>
            <p:cNvPr id="403" name=""/>
            <p:cNvSpPr/>
            <p:nvPr/>
          </p:nvSpPr>
          <p:spPr>
            <a:xfrm>
              <a:off x="380880" y="460044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’ 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676520" y="3609720"/>
              <a:ext cx="2133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85800" y="518148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he plus box next to the object name to view each data member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3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71720" y="2743200"/>
            <a:ext cx="340056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07520" y="1447920"/>
            <a:ext cx="53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local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62120" y="3505320"/>
            <a:ext cx="2209680" cy="1099080"/>
            <a:chOff x="762120" y="3505320"/>
            <a:chExt cx="2209680" cy="1099080"/>
          </a:xfrm>
        </p:grpSpPr>
        <p:sp>
          <p:nvSpPr>
            <p:cNvPr id="410" name=""/>
            <p:cNvSpPr/>
            <p:nvPr/>
          </p:nvSpPr>
          <p:spPr>
            <a:xfrm>
              <a:off x="762120" y="426708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447920" y="350532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85800" y="518148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, click the plus box next to the object name to view each data member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2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320" y="144792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ime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871720" y="3147840"/>
            <a:ext cx="3400560" cy="1428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08960" y="1447920"/>
            <a:ext cx="61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updated variable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85800" y="4038480"/>
            <a:ext cx="2590920" cy="1495080"/>
            <a:chOff x="685800" y="4038480"/>
            <a:chExt cx="2590920" cy="1495080"/>
          </a:xfrm>
        </p:grpSpPr>
        <p:sp>
          <p:nvSpPr>
            <p:cNvPr id="417" name=""/>
            <p:cNvSpPr/>
            <p:nvPr/>
          </p:nvSpPr>
          <p:spPr>
            <a:xfrm>
              <a:off x="685800" y="49528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’ values have been initializ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914400" y="4038480"/>
              <a:ext cx="2057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1" dur="1" fill="hold"/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871720" y="2933640"/>
            <a:ext cx="3400560" cy="18576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08600" y="1447920"/>
            <a:ext cx="68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changed variable values in 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90720" y="4190760"/>
            <a:ext cx="2743200" cy="1266840"/>
            <a:chOff x="990720" y="4190760"/>
            <a:chExt cx="2743200" cy="1266840"/>
          </a:xfrm>
        </p:grpSpPr>
        <p:sp>
          <p:nvSpPr>
            <p:cNvPr id="423" name=""/>
            <p:cNvSpPr/>
            <p:nvPr/>
          </p:nvSpPr>
          <p:spPr>
            <a:xfrm>
              <a:off x="990720" y="48769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rren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value has chang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219320" y="4190760"/>
              <a:ext cx="2514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0" dur="1" fill="hold"/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871720" y="2819520"/>
            <a:ext cx="3400560" cy="1419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12200" y="1447920"/>
            <a:ext cx="65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the value of a variab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2120" y="3476520"/>
            <a:ext cx="3047760" cy="1251720"/>
            <a:chOff x="762120" y="3476520"/>
            <a:chExt cx="3047760" cy="1251720"/>
          </a:xfrm>
        </p:grpSpPr>
        <p:sp>
          <p:nvSpPr>
            <p:cNvPr id="429" name=""/>
            <p:cNvSpPr/>
            <p:nvPr/>
          </p:nvSpPr>
          <p:spPr>
            <a:xfrm>
              <a:off x="762120" y="43909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changed by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295280" y="347652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85800" y="518148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, double click a value to manually change it while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9" dur="1" fill="hold"/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871720" y="3152880"/>
            <a:ext cx="3400560" cy="14191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11120" y="1447920"/>
            <a:ext cx="57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variables listed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962520" y="3885840"/>
            <a:ext cx="3962160" cy="1647720"/>
            <a:chOff x="3962520" y="3885840"/>
            <a:chExt cx="3962160" cy="1647720"/>
          </a:xfrm>
        </p:grpSpPr>
        <p:sp>
          <p:nvSpPr>
            <p:cNvPr id="436" name=""/>
            <p:cNvSpPr/>
            <p:nvPr/>
          </p:nvSpPr>
          <p:spPr>
            <a:xfrm>
              <a:off x="5638680" y="4952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ied variable values displayed in 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3962520" y="3885840"/>
              <a:ext cx="2286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8" dur="1" fill="hold"/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7600" y="1461960"/>
            <a:ext cx="81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vances the minute and resets the second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s r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760" y="1447920"/>
            <a:ext cx="53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invalid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00" y="1447920"/>
            <a:ext cx="70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invalid input has been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3:11:22Z</dcterms:created>
  <dc:creator>Jeffrey Peng</dc:creator>
  <dc:description/>
  <dc:language>en-US</dc:language>
  <cp:lastModifiedBy>Pearson Education</cp:lastModifiedBy>
  <dcterms:modified xsi:type="dcterms:W3CDTF">2004-10-11T14:13:11Z</dcterms:modified>
  <cp:revision>119</cp:revision>
  <dc:subject/>
  <dc:title>Tutorial 15 – Digital Clock Application: Building Your Own Classes and Objects</dc:title>
</cp:coreProperties>
</file>